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853-21E7-43CB-96C9-0D76755E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5CD-94E4-44C6-8004-8EBC66E9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5B3-73ED-4405-B555-787000F9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1A9-D718-45AB-B44A-7370BD03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6BF1-FBDF-4D9F-88AF-3093BC64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4916-925A-4850-8881-8C386494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A55E-2D4D-4768-A45F-25D5A52E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E74E-39AD-495C-9501-3646AE7F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4F53-0B2C-449C-8461-547CAEB5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7A18-61F2-4DAA-9C5F-04F839BE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BDCD-CBFA-4195-8985-9DEED27E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22F-33C2-433F-872E-CFCB8939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2073-A169-4940-B0A3-F67C1588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F406-10B9-418C-99F4-5E1F198A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E6D9-1439-4266-BC8C-CDAF7890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BA6B-BE39-4D71-A5C1-50B31A35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1003-B53D-409D-A31F-B34FF2D4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3A32-E1CE-473B-A630-E88393B4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642C-4CC3-498B-97F2-82384D9C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3B5B-4AC3-481C-B5F7-CDACA172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CCD0-F0DD-40AF-BCF0-FB28ECD1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3BB6-1441-4F8A-8F0A-0A68CA2F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2A5-D4DB-43D5-ABDF-26AC387E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C7EFE-5D24-4D02-AACA-9D2A330D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BDA5-33E3-4E27-8F09-BCD6E123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0300-A70B-40C0-BB5C-EA38799A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9A80-196C-4054-813E-91E80C7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150B-978E-4427-8BBE-6241D5AD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A391-1339-4F99-AF99-C63975F3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2484-506F-4BA9-BAD7-69ED18FA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8259-997A-4B41-8C6A-25DD75A4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7F748-C698-493A-9EA4-8BFCE45F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5626E-550E-4347-A773-D21B354D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DFE-C1A0-4C6A-B99C-48545DE1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F465-A724-4BE1-8F1A-1BB28B4D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5B18-0723-4F59-B916-15FDFFEC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8A4F0-FDD7-473F-8789-654D9968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9A525-D684-4137-9FFC-68D79871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65F95-7C09-4399-9053-5C04BCE9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B8C1D-5459-40A7-8310-89AEE7B4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F512-DEDB-4DA2-9E43-7A780536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1842-6808-4D0D-B9CC-D2E3C325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A5915-5BDA-44CD-A102-FF90B64F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32B0D-959F-48B1-86B3-F53F5881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7D0-4F36-467B-BAC5-9E9592EC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6BB7B-CB1E-4B83-B294-443024C3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A5BF-7B8D-49D2-B101-A5FE21C7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32744-13F6-4C63-9421-C5DA2EDC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5E6A-CCB8-49CC-92D1-DC53DFC1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C5FC-A770-475F-9C86-924F1A85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1DDE3-6048-46D7-ABF0-9D87DC2E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CA80E-0EEE-4F54-955C-32F970EF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FEA0C-2406-47B8-A96C-69347348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CBD1-9049-4C43-BA5F-E9450D88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F8766-4936-4890-90EA-0FCB258F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35D-B0D4-48A3-8A60-EC645785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4B9AD-36A1-429C-817F-C046B7A4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6B0-4E3E-4F4E-8110-7AC94931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208-E318-43A1-9578-1B8015EC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581-2072-4A11-91FF-9F1FCB91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0E71-E889-41CA-99CB-5C25BB7EB7A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931C-5712-48F6-BC18-823336FA44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889D-22EE-429A-8CB0-435D838060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D1E6-44B0-4004-92A9-94945F36B6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9F35-7A97-4B70-8DCD-FF306832C7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diana.edu/~wts/pamphlets/thesis_statement.s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apter 10 repor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World Hist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quir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 pages double spac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with a </a:t>
            </a: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thesis statemen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body, conclu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itle p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renthetical ci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orks Ci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ource requir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 different sour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ook, periodical, encycloped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LIABLE websi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our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iography Reference Ban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lier Onli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iography.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ow to avoid Plagiaris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ing a direct quote…cite it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in doubt, cite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AD first…then write it in your own wor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40:45Z</dcterms:created>
  <dc:creator>jalbright</dc:creator>
  <dc:description/>
  <dc:language>en-US</dc:language>
  <cp:lastModifiedBy>jalbright</cp:lastModifiedBy>
  <dcterms:modified xsi:type="dcterms:W3CDTF">2010-11-12T15:07:18Z</dcterms:modified>
  <cp:revision>15</cp:revision>
  <dc:subject/>
  <dc:title>World History</dc:title>
</cp:coreProperties>
</file>